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766-C140-46EA-B141-A70B6937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A6D8-3F81-49C2-9517-DCC28E7B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D5A6A-2C72-4518-B020-CD50C19E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BD687-2846-4D0A-8D88-D28B7F09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527B0-D700-4923-8015-77D44624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E0A92-1E10-4B74-9F1A-72E79DAD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874DA-F815-40E5-B860-0838A9DD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7E55B-7B4E-4294-9253-9E780E39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1341A-3D21-418E-BE3A-A2C9CA713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1DC6F-5E00-46FE-88B5-2334323A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87FA4-FA68-4493-9FE8-5D3DC75F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33304-E932-47B9-BCE9-6C4E0E9B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70D-F478-490C-8451-9CAA3A06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70DA7-12E6-40F7-82EB-9C508B11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A1E18B-BBE0-4ECE-A04C-48D7D21F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66C42-F051-4A05-BF23-9E27EF6D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7E133-63F1-40E0-9187-7345BA77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AE51D-E50E-40A7-87A9-F365DB4A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ABA98-2BF2-448A-B71D-66962506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D2B38-FD0A-4FD5-BFA8-6FC97EC9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E4EA3-B50F-4E54-918D-2D1C9A1A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BC9D8-E2AF-479D-ABAC-E02A3659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EBA35-402C-41DE-A352-C098E2F2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3B65-58C6-4FB2-A25A-B5513C55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AB8E5-0713-4DE9-85AB-43875E170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D3311-E0C7-4407-AAA4-1F713E33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3001F-E5F4-4E2E-8573-99B2FF7A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384FC-EFF2-4BEA-99FC-B74B17A1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FDA91-8CA6-4C21-B2CA-DB0009DE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74DE7-7F6C-446E-8569-674C7401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34B7D-399A-4D28-8B9B-03DFD66F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808A8-EF5B-4E48-85D8-A2DB204E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4AEB9-911B-4C2A-8678-4E01F9EA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6289B-B988-4FB4-909A-32E484EB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8B82-9386-4EE5-8169-08124A92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C9523-31D0-4A91-A198-B7D81298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FBB99-9AB8-4A27-9469-17B2976A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CA8A4-F48C-4FB4-B196-5F0FF1D4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3C48E-EC3A-4227-BB81-13D192AD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62BF0-1BA3-45C5-B828-CA81BB02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02EDB-51A3-4B7E-A53A-317F60F2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37CC6-D633-40C7-A67B-C1067816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7B338-B9F6-43BF-BC18-07763A0D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EF7A5-3678-4EBD-B118-8DB6A1F5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34875-69E6-4D92-92F6-A71B4B89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0217-D2F3-4B82-A784-B3CC41A1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A7555-8226-41A5-AF74-A6E0CD3D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506A1-E24B-4181-9C33-1EF9FF45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5EB46B-7704-4788-BB9A-E227A3A7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C372D-A552-467F-9B8A-A0CCCF04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1A58D-E47E-47B6-9D88-1A3098961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69B4E9-6A5A-4C79-B2EA-754272E0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02C2A-2ABC-4D14-9A49-8B8A64B7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E4718-F35C-4C53-B726-0365F080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4BFED-5C8D-449A-9DAC-4FFFDE83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B2D5B-BA7E-4F4A-87B2-459C025A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C823-58F3-4ECE-AA62-7972B351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0DEDBD-0339-47BE-8638-DD6D310F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04D2A8-2F0D-46CB-9510-4B3BF27F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DB5577-1181-4059-841B-3044406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2FCF9-164F-4EE7-83D5-BF58C034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53001-902C-445B-BD9B-4A624A56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B246A-D3A2-49A5-B5DC-1FFC604C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2E143-4BD2-4A00-9C72-B590BEC3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51B48D-DAB1-4994-A036-28E08223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9A6EA0-E19C-4A73-9744-67D62282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62F00A-9957-4081-BF79-B09CED9D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1F26-B4E4-462F-9FDD-D009854A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8981BA-2503-4B58-8D10-DAD513C5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C0516-EAB6-4CDF-B225-0BAEF313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7E087-E761-4C75-BE40-A47513DB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FE1CE6-EB46-4C58-8380-DB1F0C94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73901-CF46-4B26-8871-C1D687BF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19687-DF40-46DE-8D20-B16DEA2A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0134C-1659-49D3-9E3F-27E5DB9A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68443-1A63-4223-BA99-113D144D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E06719-59CE-46F2-9330-F5F4614BB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D9162A-D45F-476A-8739-5078C096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B78F-6CF8-4256-92CC-0B12F41B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92C82B-4C5A-4B8C-8B61-D005B668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2F824-4BC6-4751-B5B3-BD2080AF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A1BB92-C4E9-4AC4-B443-B722CF16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2C6A2B-1460-477B-9FBC-8B639C26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BB03D7-8FC8-4C42-A1DE-C69A2133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6FF76E-C140-4633-A6BF-B7025EB0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2CDF33-372A-4F1A-95CB-A7A7A083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FB8A69-9E2B-4A52-BAE1-D992075F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4B7992-4C7C-4792-8141-6A0E860E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A6E407-E663-45C1-813E-4A50E331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D00B-F9C7-4E90-B78F-6CB88888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843B66-6F66-431B-ADB1-786B34A07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29AAD8-D220-4C6F-87B7-9D5F8274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25B28-8D96-4752-9BB1-0DD40078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A13A25-6911-4D5E-9D6E-697DEF34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ED2FBC-E675-4D47-9D9D-C4467698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9BC2B-289C-4B80-9D8E-49F94072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841BAA-27AD-44A1-8274-88710641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24D808-7C99-4138-975E-1056257B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AFF378-BED8-439B-8DCF-30C151ED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3CB619-ECA7-40E9-AC70-AEE0768C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24A4-A55B-4C40-857B-2E2B7EDF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7D79F3-82BA-48D0-BB06-C5DF6B0F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A34232-5050-46E3-A4E6-FACC7770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9B33BA-E5FC-4A70-8776-A07F4510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50863F-30E7-4BAC-A783-06DAA69D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61F9D-A034-4309-98C7-E5B3121D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847F1C-8F37-4B54-93CB-9BE9D202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5765A2-33A3-4319-A34E-39E7D1F5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AF9EA6-B758-4C1B-BE86-6BEDC524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AE5CE2-F3B2-40DD-8E19-B85581A9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F0909B-D8B5-4C91-8B22-B80E22E6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F6A-0F49-4827-9144-73D4FED6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6611-3DB1-4766-97EB-C7F28DB8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A84469-6A90-4C94-8044-582F2469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88BE42-AD41-413E-A1DC-853AFBAD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8CD5EA-757F-4FFC-9B8D-D24FF973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FC64C5-AF41-4C9B-A8C3-58D8B6EF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4D7296-C305-4A85-848C-333A6CB2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6296DF-F43E-48CE-A814-9552D4D75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05AE05-9915-47DA-88AE-57B60103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E4536A-08C4-4A5F-8A12-9CCEB1C7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F7A890-1C8A-440A-9730-3B3502CC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D10937-CE12-4D35-A965-ED17994A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558F-1D56-4FB8-98CF-21E3B01E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CEE77-1AEE-41F3-901F-028F66CC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2D3162-CDAD-42B0-A0A4-D7D4F0AF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2DF930-CAAD-405B-BB54-660D084A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BB0F48-A483-4CBC-AAC9-415B6940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B9027B-C185-4750-8E06-896006BE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6307E7-3F48-42A1-9532-D5A2D03D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FDE0BB-2E8E-441D-BA6C-BA82E216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0EC969-929E-48CA-98E7-D6922B7E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3ECB53-43F6-4E6F-8148-06B674F5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E42D01-D6F6-4D25-B42F-A064A477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F1B4-60E0-4ACA-B9C3-CB89280C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5F34E9-B22E-4A3D-8578-38E4F47C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D603BF-0622-4593-AC06-F449E024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6C0AB7-E776-4E1A-8EB5-BDC9A0E9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E6508F-8A78-48F4-9159-A5A08398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EABD59-EA29-4E83-BD42-62502771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696E03-B87E-4ED0-BE51-964629D8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7C7F26-EE7A-4041-90D2-253DDEE2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39385A-0D05-415F-A5D0-CFFAC19C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E2A883-AFD3-408A-8497-5E88FDD2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0901A3-62F3-4CA6-A257-50FEC7D3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234E-71E9-4548-BC3C-DE218FF6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410128-3BC4-4FEB-8983-459EF525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0D11B4-83C9-4F5B-91AE-40D05091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C8ADA0-E08C-4007-AD9E-0F1BC50C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DF43A2-D875-4306-BE40-1C739665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742D0A-4C53-49FF-B6D3-B247691F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1F8A0B-DEAA-4DB4-A22F-58A37489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C9E5AA-3373-47CC-827E-658F82BD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37CFAB-930E-4E8C-BD8B-B7DA43A3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0D5646-3FAE-44ED-A767-3D8ED669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D901EA-308F-47C5-85FC-D97B64BA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AD2C-F2AB-4883-ACA3-9C870086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788E05-2A2A-4722-A7AD-D14682D5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8CA7D0-FD24-48EE-BABE-AE6F1681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988736-B45E-4381-BA10-0402C8C8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2A7CC9-E208-4C93-AE7F-A67FB959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164C3A-7313-4F84-A7BD-1DAD0843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C55120-44CC-4BD5-822D-9911D7BF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FAB833-99DF-4688-B9D0-96B149A4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528806-69E8-4A78-9866-18A63092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6BA271-FDEA-4884-8E16-4E32690E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C2CF40-7C46-4467-953D-25666169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1CB1A-EE1B-436B-8168-DFB0039A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5E6371-8A6F-4081-9467-B01AC392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597209-E6CE-4FBD-98AA-76A3CD7A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958D54-EA94-422C-8439-CB7D372D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CD55C-0589-4D5F-B5EB-0678DF14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C06A3-4E8E-4F92-A4EA-F5A22783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4E8E6-1B4F-444A-9CF9-57886A68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8FC71-4120-4743-A838-79F1AE75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9E9C-1B24-4A29-87D6-52A89B2D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B00A8-F502-472B-A9F1-199B2C00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9E0A6-D88D-4D55-A85E-F962286A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F72A-8B64-4EDA-98A2-1C498D67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1967F-BA82-466A-B606-9B35C213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DBC22-D18C-4CB5-A50A-6C57F871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82425-8416-467A-961A-4A0F3554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B098A-F5B6-471F-8A10-4B5E0475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40707-99D4-46FD-990F-74B56FE4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1ADE8-D06D-4378-93AB-BB97DBFF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5A0CB-9E2F-4599-81BE-B1EB7E1D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58C-97E8-4A51-A2C7-81734373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CA8FE-1D4A-48F2-AC5F-EE8149E4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4AD11-781D-452D-979A-2E3FFDCA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11524-9ECF-4FF6-8111-EB273086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ABA4D-68A0-48AF-9974-5D04DFED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785D6-CAC2-4BC8-B15D-563322D6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0D6F5-3A83-42A2-A26C-021E203F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9F490-72FD-4214-ADE8-F2DF1183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07E8A-18E2-47E7-A920-246D77E1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1793C-8B9D-47E6-B224-375C9BD5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37398-406E-4B60-A61A-120C78BB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CEE-6B42-4600-92F8-11A49BA0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2B01E-BCE5-4D69-A3A1-B8AD2863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ED01C-9987-47B9-B40A-24A6465A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49C35-A97F-4DCB-A592-44A5A7CA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02EE1-94A1-4EC6-A831-06D8344C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22493-7F37-4A77-861E-10B21121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73420-70B3-431A-9A3A-B2F222D5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64E9F-D74A-41C6-A4F1-B15F42A9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F137B-011D-4825-BF6D-0DFEE08A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5AC3E-BDBE-46D3-911A-8441D7AD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EC1BC-B463-4E82-8F9C-E211D857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2175-3F4A-41F2-8CBC-86A16949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9BC90-3CDF-44D7-8FF8-9CC1F098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0E488-00E0-4CFF-B0C2-CD5CF344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BD51A-8DBD-4D67-87AE-8389B27E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EBBB9-B3EE-4C77-8FFC-A29874507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B4AF0-D3B7-42D8-9593-A11AF896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49FEC-D456-4E0A-A005-E59C8462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51AA6-7E51-4EE9-977A-C55D4EBB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89509-1D9F-4A11-A070-050789B3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88BED-BF6E-4652-B051-92328F5E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38877-FC7F-4B4F-A3E6-61243316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A3B-7631-4E57-AD7F-A0F00C15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71B19-42FA-4AF6-8F2C-FAEE85C9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151DA-D407-470D-8F5C-4D8F6410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A4949-8EC7-43A7-90BB-3C1279E1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6E7BD-E0F4-45A0-B416-0E3C6869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C4E31-28CD-419C-84C1-F8496A54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E8C2A-B2D0-4D90-8031-EDBA6BD4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B522D-170A-43DA-89C9-C79184EA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3B256-DC3B-4360-949C-68A91AE0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17AEE-204A-4756-9876-1F653BCD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0F773-0C5E-43EB-9080-76259830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62A9-8293-4583-BE41-0608EADE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B70A5-16FD-4F37-8B5A-3AD0B8E9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BF75D-1A16-4301-BAEE-002719EE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68A03-5EC7-4D4E-9451-12F6C6C6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90CC1-8FF6-497A-96E4-E33E0E98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9C5EE-EA0D-477F-8105-D5C9D8AE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D5D1C-CFA1-4C78-B4DF-FC24FF786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35484-0877-4F35-B2B2-E2E38FC5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6E3A8-B171-49ED-9C6B-DDBDC25A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82E22-C97F-4630-94C7-7F7D563B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73F7D-1CC1-4A45-9190-2C3F80E2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BD7-13EF-4B2E-8745-385982C8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75CF5-225E-41C2-B4B9-E07A02EF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0D1C9-C340-4B27-8A8C-FCB7E8CE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FA2FC-C888-4E91-BF37-5C363934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6555C-E471-4C6D-B010-6171669C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BE871-91C5-4FC7-8045-D15F2BC7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9197C-62B9-4B9A-B44E-3D2B240AF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FCE04-1C2D-425F-AB78-51E4F5BB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6DA63-3871-4108-8BC9-51AE19A2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A6F3F-E9EA-4B5B-BE36-E70BB8FE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EEFA2-6CFB-4477-BBC8-83B4AF4A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D8FB-53FC-43F1-B89B-3A9CA9A9A9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AF80-EDFD-478F-BF4A-47C4CD2209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D450-568B-403C-A8EC-0A7A9B238D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1B71-A243-483C-B6A9-1D9215C19B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786C-7ED8-4AB8-B23F-75B6551459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67BB-A95B-4D99-A25B-B9D91187C3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61F4-7F1F-47B9-AF61-19038713E5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96C4-1306-438B-AECE-554E92B362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647C-D728-457A-AA8D-832886D082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0CB7-435F-487B-B58B-301652056D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7BEE-F4AE-4798-9408-9350875472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CB10-DF67-4603-923C-4DDE7DAFB5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0D93-3CC2-4431-864A-4DC28C4D01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08A0-62A2-4C3A-86D0-EA0C472621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F01B-F89E-4428-8033-66FB4F6870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BC7B-ED1D-4535-B31B-A32F8B80A3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9C86-9B21-4148-999D-C9BC043FF1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44A4-F089-4FD3-A7BC-DDFA505288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A942-B1F4-421A-A4C2-E4056E707C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B932-098E-4320-B189-DE6DC47FC5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3A9D-231B-4E6B-BE0A-DD2EB94F53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8300-C638-498E-A092-BD1009E5E5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1AA3-F65C-40C4-A83E-5AAFE13694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DC85-87F7-4916-8523-5333B8E0C0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FA13-4A64-4A83-A2EB-37B7353EC9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EC40-327D-47C8-BE38-BB0C380864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07AE-3E31-4A78-B496-2B96E1F2D2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C259-ABF4-4A9D-B89F-1CAF8E451B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1879-75CD-45E7-A7EE-E009CED351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4D34-6526-4A75-B67C-940A4CE8A1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B806-8F98-4DB7-A32F-09B9561934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7A0C-7916-4F0A-B701-0A2B8048C6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4254-D22C-42D6-A84F-58475B8BEE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269D-35F1-4173-8604-88C976FE69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6018-9C06-49CC-B67D-95373E98DE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40C2-EFE5-4807-B2E0-E354412ECA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037C-6442-4914-87B4-796279BDC5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2B53-3E50-489B-851D-C6D5FBD64B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54D7-9CAF-492A-93C4-CF7BEB26A9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F2C0-1738-4E4D-BD07-6B7DE11A52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80" descr=""/>
          <p:cNvPicPr/>
          <p:nvPr/>
        </p:nvPicPr>
        <p:blipFill>
          <a:blip r:embed="rId1"/>
          <a:stretch/>
        </p:blipFill>
        <p:spPr>
          <a:xfrm>
            <a:off x="1866960" y="3129120"/>
            <a:ext cx="5410080" cy="59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79873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7962840" cy="153360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79874" descr=""/>
          <p:cNvPicPr/>
          <p:nvPr/>
        </p:nvPicPr>
        <p:blipFill>
          <a:blip r:embed="rId2"/>
          <a:stretch/>
        </p:blipFill>
        <p:spPr>
          <a:xfrm>
            <a:off x="1222200" y="3902040"/>
            <a:ext cx="4857840" cy="457200"/>
          </a:xfrm>
          <a:prstGeom prst="rect">
            <a:avLst/>
          </a:prstGeom>
          <a:ln w="0">
            <a:noFill/>
          </a:ln>
        </p:spPr>
      </p:pic>
      <p:sp>
        <p:nvSpPr>
          <p:cNvPr id="1062" name="矩形 79875"/>
          <p:cNvSpPr/>
          <p:nvPr/>
        </p:nvSpPr>
        <p:spPr>
          <a:xfrm>
            <a:off x="4844880" y="2786040"/>
            <a:ext cx="80676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79876"/>
          <p:cNvSpPr/>
          <p:nvPr/>
        </p:nvSpPr>
        <p:spPr>
          <a:xfrm>
            <a:off x="4830840" y="3319560"/>
            <a:ext cx="744480" cy="34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79877"/>
          <p:cNvSpPr/>
          <p:nvPr/>
        </p:nvSpPr>
        <p:spPr>
          <a:xfrm>
            <a:off x="4808520" y="3906720"/>
            <a:ext cx="7444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78849" descr=""/>
          <p:cNvPicPr/>
          <p:nvPr/>
        </p:nvPicPr>
        <p:blipFill>
          <a:blip r:embed="rId1"/>
          <a:stretch/>
        </p:blipFill>
        <p:spPr>
          <a:xfrm>
            <a:off x="539640" y="1147680"/>
            <a:ext cx="7981920" cy="4562640"/>
          </a:xfrm>
          <a:prstGeom prst="rect">
            <a:avLst/>
          </a:prstGeom>
          <a:ln w="0">
            <a:noFill/>
          </a:ln>
        </p:spPr>
      </p:pic>
      <p:sp>
        <p:nvSpPr>
          <p:cNvPr id="1066" name="矩形 78850"/>
          <p:cNvSpPr/>
          <p:nvPr/>
        </p:nvSpPr>
        <p:spPr>
          <a:xfrm>
            <a:off x="6713640" y="1752480"/>
            <a:ext cx="73800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78851"/>
          <p:cNvSpPr/>
          <p:nvPr/>
        </p:nvSpPr>
        <p:spPr>
          <a:xfrm>
            <a:off x="1500120" y="2884320"/>
            <a:ext cx="73836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77825" descr=""/>
          <p:cNvPicPr/>
          <p:nvPr/>
        </p:nvPicPr>
        <p:blipFill>
          <a:blip r:embed="rId1"/>
          <a:stretch/>
        </p:blipFill>
        <p:spPr>
          <a:xfrm>
            <a:off x="449280" y="743040"/>
            <a:ext cx="8048520" cy="5904000"/>
          </a:xfrm>
          <a:prstGeom prst="rect">
            <a:avLst/>
          </a:prstGeom>
          <a:ln w="0">
            <a:noFill/>
          </a:ln>
        </p:spPr>
      </p:pic>
      <p:sp>
        <p:nvSpPr>
          <p:cNvPr id="1069" name="矩形 77826"/>
          <p:cNvSpPr/>
          <p:nvPr/>
        </p:nvSpPr>
        <p:spPr>
          <a:xfrm>
            <a:off x="3284640" y="2427120"/>
            <a:ext cx="78264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77827"/>
          <p:cNvSpPr/>
          <p:nvPr/>
        </p:nvSpPr>
        <p:spPr>
          <a:xfrm>
            <a:off x="5691240" y="2971800"/>
            <a:ext cx="6094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77828"/>
          <p:cNvSpPr/>
          <p:nvPr/>
        </p:nvSpPr>
        <p:spPr>
          <a:xfrm>
            <a:off x="5386320" y="5203800"/>
            <a:ext cx="77004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77829"/>
          <p:cNvSpPr/>
          <p:nvPr/>
        </p:nvSpPr>
        <p:spPr>
          <a:xfrm>
            <a:off x="7270920" y="5748480"/>
            <a:ext cx="769680" cy="34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76803" descr=""/>
          <p:cNvPicPr/>
          <p:nvPr/>
        </p:nvPicPr>
        <p:blipFill>
          <a:blip r:embed="rId1"/>
          <a:stretch/>
        </p:blipFill>
        <p:spPr>
          <a:xfrm>
            <a:off x="561960" y="1714680"/>
            <a:ext cx="8020080" cy="3429000"/>
          </a:xfrm>
          <a:prstGeom prst="rect">
            <a:avLst/>
          </a:prstGeom>
          <a:ln w="0">
            <a:noFill/>
          </a:ln>
        </p:spPr>
      </p:pic>
      <p:sp>
        <p:nvSpPr>
          <p:cNvPr id="1074" name="矩形 76804"/>
          <p:cNvSpPr/>
          <p:nvPr/>
        </p:nvSpPr>
        <p:spPr>
          <a:xfrm>
            <a:off x="2457360" y="2308320"/>
            <a:ext cx="746280" cy="34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76805"/>
          <p:cNvSpPr/>
          <p:nvPr/>
        </p:nvSpPr>
        <p:spPr>
          <a:xfrm>
            <a:off x="4700520" y="2308320"/>
            <a:ext cx="746280" cy="34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76806"/>
          <p:cNvSpPr/>
          <p:nvPr/>
        </p:nvSpPr>
        <p:spPr>
          <a:xfrm>
            <a:off x="7007400" y="2317680"/>
            <a:ext cx="74592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图片 89089" descr=""/>
          <p:cNvPicPr/>
          <p:nvPr/>
        </p:nvPicPr>
        <p:blipFill>
          <a:blip r:embed="rId1"/>
          <a:stretch/>
        </p:blipFill>
        <p:spPr>
          <a:xfrm>
            <a:off x="552600" y="2004840"/>
            <a:ext cx="8038800" cy="28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图片 90113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505640" cy="5038920"/>
          </a:xfrm>
          <a:prstGeom prst="rect">
            <a:avLst/>
          </a:prstGeom>
          <a:ln w="0">
            <a:noFill/>
          </a:ln>
        </p:spPr>
      </p:pic>
      <p:sp>
        <p:nvSpPr>
          <p:cNvPr id="1079" name="矩形 90114"/>
          <p:cNvSpPr/>
          <p:nvPr/>
        </p:nvSpPr>
        <p:spPr>
          <a:xfrm>
            <a:off x="6431040" y="1546200"/>
            <a:ext cx="80496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矩形 90115"/>
          <p:cNvSpPr/>
          <p:nvPr/>
        </p:nvSpPr>
        <p:spPr>
          <a:xfrm>
            <a:off x="5429160" y="2666880"/>
            <a:ext cx="60984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矩形 90116"/>
          <p:cNvSpPr/>
          <p:nvPr/>
        </p:nvSpPr>
        <p:spPr>
          <a:xfrm>
            <a:off x="5657760" y="3755880"/>
            <a:ext cx="1219320" cy="40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矩形 90117"/>
          <p:cNvSpPr/>
          <p:nvPr/>
        </p:nvSpPr>
        <p:spPr>
          <a:xfrm>
            <a:off x="5079960" y="4930920"/>
            <a:ext cx="555840" cy="34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矩形 90119"/>
          <p:cNvSpPr/>
          <p:nvPr/>
        </p:nvSpPr>
        <p:spPr>
          <a:xfrm>
            <a:off x="3033720" y="5497560"/>
            <a:ext cx="5554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88065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2828880" cy="70488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88066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62800" cy="3629160"/>
          </a:xfrm>
          <a:prstGeom prst="rect">
            <a:avLst/>
          </a:prstGeom>
          <a:ln w="0">
            <a:noFill/>
          </a:ln>
        </p:spPr>
      </p:pic>
      <p:sp>
        <p:nvSpPr>
          <p:cNvPr id="1025" name="矩形 88067"/>
          <p:cNvSpPr/>
          <p:nvPr/>
        </p:nvSpPr>
        <p:spPr>
          <a:xfrm>
            <a:off x="2340000" y="1557360"/>
            <a:ext cx="5554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88068"/>
          <p:cNvSpPr/>
          <p:nvPr/>
        </p:nvSpPr>
        <p:spPr>
          <a:xfrm>
            <a:off x="5940360" y="1557360"/>
            <a:ext cx="55584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88069"/>
          <p:cNvSpPr/>
          <p:nvPr/>
        </p:nvSpPr>
        <p:spPr>
          <a:xfrm>
            <a:off x="7763040" y="1535040"/>
            <a:ext cx="5554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88070"/>
          <p:cNvSpPr/>
          <p:nvPr/>
        </p:nvSpPr>
        <p:spPr>
          <a:xfrm>
            <a:off x="2471760" y="1971720"/>
            <a:ext cx="5554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88071"/>
          <p:cNvSpPr/>
          <p:nvPr/>
        </p:nvSpPr>
        <p:spPr>
          <a:xfrm>
            <a:off x="3603600" y="1971720"/>
            <a:ext cx="5554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8072"/>
          <p:cNvSpPr/>
          <p:nvPr/>
        </p:nvSpPr>
        <p:spPr>
          <a:xfrm>
            <a:off x="8001000" y="1971720"/>
            <a:ext cx="5554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88073"/>
          <p:cNvSpPr/>
          <p:nvPr/>
        </p:nvSpPr>
        <p:spPr>
          <a:xfrm>
            <a:off x="2362320" y="2374920"/>
            <a:ext cx="5554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88074"/>
          <p:cNvSpPr/>
          <p:nvPr/>
        </p:nvSpPr>
        <p:spPr>
          <a:xfrm>
            <a:off x="4500720" y="2781360"/>
            <a:ext cx="71892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88075"/>
          <p:cNvSpPr/>
          <p:nvPr/>
        </p:nvSpPr>
        <p:spPr>
          <a:xfrm>
            <a:off x="1512720" y="3201840"/>
            <a:ext cx="61920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88076"/>
          <p:cNvSpPr/>
          <p:nvPr/>
        </p:nvSpPr>
        <p:spPr>
          <a:xfrm>
            <a:off x="2579760" y="3616200"/>
            <a:ext cx="61920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88077"/>
          <p:cNvSpPr/>
          <p:nvPr/>
        </p:nvSpPr>
        <p:spPr>
          <a:xfrm>
            <a:off x="5148360" y="3616200"/>
            <a:ext cx="61920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88078"/>
          <p:cNvSpPr/>
          <p:nvPr/>
        </p:nvSpPr>
        <p:spPr>
          <a:xfrm>
            <a:off x="6748560" y="3616200"/>
            <a:ext cx="61920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88079"/>
          <p:cNvSpPr/>
          <p:nvPr/>
        </p:nvSpPr>
        <p:spPr>
          <a:xfrm>
            <a:off x="2568600" y="4017960"/>
            <a:ext cx="61920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88080"/>
          <p:cNvSpPr/>
          <p:nvPr/>
        </p:nvSpPr>
        <p:spPr>
          <a:xfrm>
            <a:off x="2568600" y="4443480"/>
            <a:ext cx="200340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88086"/>
          <p:cNvSpPr/>
          <p:nvPr/>
        </p:nvSpPr>
        <p:spPr>
          <a:xfrm>
            <a:off x="3059280" y="4941720"/>
            <a:ext cx="609480" cy="2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88087"/>
          <p:cNvSpPr/>
          <p:nvPr/>
        </p:nvSpPr>
        <p:spPr>
          <a:xfrm>
            <a:off x="4170240" y="4869000"/>
            <a:ext cx="609840" cy="34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87041" descr=""/>
          <p:cNvPicPr/>
          <p:nvPr/>
        </p:nvPicPr>
        <p:blipFill>
          <a:blip r:embed="rId1"/>
          <a:stretch/>
        </p:blipFill>
        <p:spPr>
          <a:xfrm>
            <a:off x="380880" y="966960"/>
            <a:ext cx="8382240" cy="4924080"/>
          </a:xfrm>
          <a:prstGeom prst="rect">
            <a:avLst/>
          </a:prstGeom>
          <a:ln w="0">
            <a:noFill/>
          </a:ln>
        </p:spPr>
      </p:pic>
      <p:sp>
        <p:nvSpPr>
          <p:cNvPr id="1042" name="矩形 87042"/>
          <p:cNvSpPr/>
          <p:nvPr/>
        </p:nvSpPr>
        <p:spPr>
          <a:xfrm>
            <a:off x="3719520" y="3429000"/>
            <a:ext cx="5554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87043"/>
          <p:cNvSpPr/>
          <p:nvPr/>
        </p:nvSpPr>
        <p:spPr>
          <a:xfrm>
            <a:off x="1162080" y="4255920"/>
            <a:ext cx="312264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87044"/>
          <p:cNvSpPr/>
          <p:nvPr/>
        </p:nvSpPr>
        <p:spPr>
          <a:xfrm>
            <a:off x="7997760" y="4659480"/>
            <a:ext cx="555840" cy="34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7045"/>
          <p:cNvSpPr/>
          <p:nvPr/>
        </p:nvSpPr>
        <p:spPr>
          <a:xfrm>
            <a:off x="7769160" y="5073480"/>
            <a:ext cx="55584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86019" descr=""/>
          <p:cNvPicPr/>
          <p:nvPr/>
        </p:nvPicPr>
        <p:blipFill>
          <a:blip r:embed="rId1"/>
          <a:stretch/>
        </p:blipFill>
        <p:spPr>
          <a:xfrm>
            <a:off x="385920" y="1352520"/>
            <a:ext cx="8372160" cy="4152960"/>
          </a:xfrm>
          <a:prstGeom prst="rect">
            <a:avLst/>
          </a:prstGeom>
          <a:ln w="0">
            <a:noFill/>
          </a:ln>
        </p:spPr>
      </p:pic>
      <p:sp>
        <p:nvSpPr>
          <p:cNvPr id="1047" name="矩形 86020"/>
          <p:cNvSpPr/>
          <p:nvPr/>
        </p:nvSpPr>
        <p:spPr>
          <a:xfrm>
            <a:off x="8244000" y="2276640"/>
            <a:ext cx="360360" cy="34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86021"/>
          <p:cNvSpPr/>
          <p:nvPr/>
        </p:nvSpPr>
        <p:spPr>
          <a:xfrm>
            <a:off x="2936880" y="4257720"/>
            <a:ext cx="55548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86022"/>
          <p:cNvSpPr/>
          <p:nvPr/>
        </p:nvSpPr>
        <p:spPr>
          <a:xfrm>
            <a:off x="2544840" y="5106960"/>
            <a:ext cx="209844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84993" descr=""/>
          <p:cNvPicPr/>
          <p:nvPr/>
        </p:nvPicPr>
        <p:blipFill>
          <a:blip r:embed="rId1"/>
          <a:stretch/>
        </p:blipFill>
        <p:spPr>
          <a:xfrm>
            <a:off x="371520" y="2386080"/>
            <a:ext cx="8400960" cy="2085840"/>
          </a:xfrm>
          <a:prstGeom prst="rect">
            <a:avLst/>
          </a:prstGeom>
          <a:ln w="0">
            <a:noFill/>
          </a:ln>
        </p:spPr>
      </p:pic>
      <p:sp>
        <p:nvSpPr>
          <p:cNvPr id="1051" name="矩形 84994"/>
          <p:cNvSpPr/>
          <p:nvPr/>
        </p:nvSpPr>
        <p:spPr>
          <a:xfrm>
            <a:off x="8150400" y="3289320"/>
            <a:ext cx="38232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图片 83969" descr=""/>
          <p:cNvPicPr/>
          <p:nvPr/>
        </p:nvPicPr>
        <p:blipFill>
          <a:blip r:embed="rId1"/>
          <a:stretch/>
        </p:blipFill>
        <p:spPr>
          <a:xfrm>
            <a:off x="566640" y="1533600"/>
            <a:ext cx="8010720" cy="3790800"/>
          </a:xfrm>
          <a:prstGeom prst="rect">
            <a:avLst/>
          </a:prstGeom>
          <a:ln w="0">
            <a:noFill/>
          </a:ln>
        </p:spPr>
      </p:pic>
      <p:sp>
        <p:nvSpPr>
          <p:cNvPr id="1053" name="矩形 83970"/>
          <p:cNvSpPr/>
          <p:nvPr/>
        </p:nvSpPr>
        <p:spPr>
          <a:xfrm>
            <a:off x="7845480" y="4398840"/>
            <a:ext cx="36036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82945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001000" cy="5896080"/>
          </a:xfrm>
          <a:prstGeom prst="rect">
            <a:avLst/>
          </a:prstGeom>
          <a:ln w="0">
            <a:noFill/>
          </a:ln>
        </p:spPr>
      </p:pic>
      <p:sp>
        <p:nvSpPr>
          <p:cNvPr id="1055" name="矩形 82946"/>
          <p:cNvSpPr/>
          <p:nvPr/>
        </p:nvSpPr>
        <p:spPr>
          <a:xfrm>
            <a:off x="7682040" y="752400"/>
            <a:ext cx="43164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图片 81921" descr=""/>
          <p:cNvPicPr/>
          <p:nvPr/>
        </p:nvPicPr>
        <p:blipFill>
          <a:blip r:embed="rId1"/>
          <a:stretch/>
        </p:blipFill>
        <p:spPr>
          <a:xfrm>
            <a:off x="549360" y="735120"/>
            <a:ext cx="8001000" cy="5856120"/>
          </a:xfrm>
          <a:prstGeom prst="rect">
            <a:avLst/>
          </a:prstGeom>
          <a:ln w="0">
            <a:noFill/>
          </a:ln>
        </p:spPr>
      </p:pic>
      <p:sp>
        <p:nvSpPr>
          <p:cNvPr id="1057" name="矩形 81922"/>
          <p:cNvSpPr/>
          <p:nvPr/>
        </p:nvSpPr>
        <p:spPr>
          <a:xfrm>
            <a:off x="7878600" y="2917800"/>
            <a:ext cx="36036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80897" descr=""/>
          <p:cNvPicPr/>
          <p:nvPr/>
        </p:nvPicPr>
        <p:blipFill>
          <a:blip r:embed="rId1"/>
          <a:stretch/>
        </p:blipFill>
        <p:spPr>
          <a:xfrm>
            <a:off x="519120" y="808200"/>
            <a:ext cx="8048520" cy="5886360"/>
          </a:xfrm>
          <a:prstGeom prst="rect">
            <a:avLst/>
          </a:prstGeom>
          <a:ln w="0">
            <a:noFill/>
          </a:ln>
        </p:spPr>
      </p:pic>
      <p:sp>
        <p:nvSpPr>
          <p:cNvPr id="1059" name="矩形 80898"/>
          <p:cNvSpPr/>
          <p:nvPr/>
        </p:nvSpPr>
        <p:spPr>
          <a:xfrm>
            <a:off x="7736040" y="1949400"/>
            <a:ext cx="502920" cy="34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33:26Z</dcterms:modified>
  <cp:revision>2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